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ECE-63A8-4AA9-9C0C-01CAA33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635-898F-492A-BAB4-7D48B14C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69E-8B1B-4D00-8BDD-F5B0B861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8A6-8F47-4E61-A4BE-E3B17EAE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AAD-D6FC-4347-AD79-055FED80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1FB-01C2-4354-9E2E-BB7B0F0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0CF-C636-4DD4-85E0-C1BCFC2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2FE-B9E5-4EFB-BAD2-9AD6BA3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C75-C457-478A-BF19-0AAB846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7B0-9A6A-41AC-BF9C-AEDCDDC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0C0-BA97-4CD7-869F-32630D4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0E6-464E-4888-9DB4-056D050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F3A-40D1-4191-B870-9310F570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raleigh  3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deliberate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, and applicable to your constituents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…fit the party mood and spirit of the project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…we definitely took notice.  You girls truly brought the house down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tarting to repeat myself, but…wow!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effective. I voted for you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21:20Z</dcterms:created>
  <dc:creator>nbdoe</dc:creator>
  <dc:description/>
  <dc:language>en-US</dc:language>
  <cp:lastModifiedBy>nbdoe</cp:lastModifiedBy>
  <dcterms:modified xsi:type="dcterms:W3CDTF">2007-05-09T17:21:28Z</dcterms:modified>
  <cp:revision>1</cp:revision>
  <dc:subject/>
  <dc:title>Election 2007</dc:title>
</cp:coreProperties>
</file>